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584EE-3FFD-4DFB-A655-B6129E0FB4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3973D-5C27-470B-92CC-4420EDB972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1BCAB-C8E6-404B-8294-4856976DAE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28374-60BB-429D-9DC1-0127466E70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13C49-668E-4551-9F24-C8E71C8514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CA5C1-2EF7-4DD3-9E77-781FEBE0B8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18AD7-007A-4490-BE2B-070FC6EF32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F67C5-47D1-414A-B674-E247C7DD79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FAB51-AA8F-47AF-867E-03FCD8EFBA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70C36-1CAB-406A-AC52-3652BB6600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F649F-6856-42E0-855A-010AA80468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87E1F-CF1E-4073-8F23-219F748FD1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CEF66-DC79-4918-937D-C56C5896D9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94B28-6B5B-4F40-A216-A8569A58A1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CD877-50CC-477B-8969-9C78BC8505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154FE-860C-4686-A3ED-BD07B9E600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DD51B-2C99-407C-997A-6B2B6C89FF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AE4E3-2D19-4F69-860A-056B4BCBA1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159AA-4AFB-48D9-BB70-555F0486E7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DEDDE-7308-4902-A4C3-A9F77BE2FF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083C1-2095-44A7-A5CF-92C3954633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8E8F3-FFE1-43A9-A3DD-A112339A34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61F7C-8468-4E7B-A45B-28547535D8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528DE-3FC6-4037-9270-B8CAA00242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4348D-8F01-44AA-BFCB-8A31B7F91C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F1FC0-D90B-462A-90A0-E9ADED40AF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98CB0-7DFA-46D1-B2B9-1314D10491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7C64B-842E-49BC-B8EE-45C8D26F10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D03FF-68F2-4376-A718-10051EB6BA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14BE0-4E92-472E-974E-CE746B1B2C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3F278-074F-4135-8F9D-6E0F70F041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ACF2C-7D10-48C2-B8C7-F258151066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EE051-A954-4867-8DD6-9B92B54104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B7EF4-8350-4004-B4CF-2BC8A795DF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AE1E4-005E-437F-B8AF-6174935C7D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8E4B0-FA4D-40CF-83DE-A8337AC3EE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0AE33-8195-4A68-894F-415CFBBCE1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43185-BCE6-451E-A96F-DB84669315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7684A-D83A-4F8A-86E7-CAA13C1837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5D3D2-120F-4F02-80FF-00E30F297B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FBC26-9B11-4A7A-9533-B8D1BBC1ED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32C3A-0D58-4927-AA22-AB6C2A9799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CBFE9-FE9D-4116-AEFD-1EABBF5E3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883D1-4AA9-4FF0-8767-156624F0B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A6D5F-D267-4686-9E80-790420258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72A86-E9CC-4907-AD11-5B2ADA1DB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20380-446E-48FC-9D65-4BA4653CA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729D2-1D6D-4AF2-B9FC-B723197F3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59849-EFAF-4360-8F85-0B153988A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9115A-012C-463A-8A7A-050B91104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A96F0-2A01-4496-A91F-6538709C7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5156A-EE00-45EC-B582-75F9081EF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275BA-92B7-4F9C-B5B8-17EEAED31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4D6DC-B649-40A2-B7F2-54949F018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50000">
              <a:srgbClr val="ff33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1A01B-A2A6-464F-B3CC-5CEF686458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2"/>
          <p:cNvSpPr txBox="1"/>
          <p:nvPr/>
        </p:nvSpPr>
        <p:spPr>
          <a:xfrm>
            <a:off x="1066680" y="1219320"/>
            <a:ext cx="7086600" cy="411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Molecules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and Cells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&amp;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Developmental and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Organismal Bio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WordArt 2"/>
          <p:cNvSpPr txBox="1"/>
          <p:nvPr/>
        </p:nvSpPr>
        <p:spPr>
          <a:xfrm>
            <a:off x="8534520" y="76320"/>
            <a:ext cx="53316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cel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66" name="Text Box 3"/>
          <p:cNvSpPr/>
          <p:nvPr/>
        </p:nvSpPr>
        <p:spPr>
          <a:xfrm>
            <a:off x="152280" y="568440"/>
            <a:ext cx="8610840" cy="39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ich of the following are examples of structures with modern eukaryotic cells that developed from early prokaryot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acuo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ysoso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tochond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lgi apparat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WordArt 2"/>
          <p:cNvSpPr txBox="1"/>
          <p:nvPr/>
        </p:nvSpPr>
        <p:spPr>
          <a:xfrm>
            <a:off x="8534520" y="76320"/>
            <a:ext cx="53316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cel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152280" y="568440"/>
            <a:ext cx="8610840" cy="39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term is used to describe all the chemical reactions that are necessary to sustain life in an organis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pi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tabol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hotosynth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nth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WordArt 2"/>
          <p:cNvSpPr txBox="1"/>
          <p:nvPr/>
        </p:nvSpPr>
        <p:spPr>
          <a:xfrm>
            <a:off x="8534520" y="76320"/>
            <a:ext cx="53316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cell-1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70" name="Text Box 3"/>
          <p:cNvSpPr/>
          <p:nvPr/>
        </p:nvSpPr>
        <p:spPr>
          <a:xfrm>
            <a:off x="152280" y="568440"/>
            <a:ext cx="8610840" cy="354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ich of the following statements about cells is correc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l cells divide by binary fiss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l living organisms are eukaryo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l living organisms are multicellul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l organisms begin life as a single cel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WordArt 2"/>
          <p:cNvSpPr txBox="1"/>
          <p:nvPr/>
        </p:nvSpPr>
        <p:spPr>
          <a:xfrm>
            <a:off x="8534520" y="76320"/>
            <a:ext cx="53316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cell-1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152280" y="568440"/>
            <a:ext cx="8610840" cy="39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ich of the following are found in the cell membrane and allow cells to communicate with one anoth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doplasmic reticul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tochond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ysoso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te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WordArt 2"/>
          <p:cNvSpPr txBox="1"/>
          <p:nvPr/>
        </p:nvSpPr>
        <p:spPr>
          <a:xfrm>
            <a:off x="8534520" y="76320"/>
            <a:ext cx="53316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cell-1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74" name="Text Box 3"/>
          <p:cNvSpPr/>
          <p:nvPr/>
        </p:nvSpPr>
        <p:spPr>
          <a:xfrm>
            <a:off x="152280" y="568440"/>
            <a:ext cx="8610840" cy="354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ich of the following is true of prokaryo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y have organelles surrounded by membra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y appeared on Earth before eukaryo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y appeared on Earth after eukaryo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y have a nucleu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WordArt 2"/>
          <p:cNvSpPr txBox="1"/>
          <p:nvPr/>
        </p:nvSpPr>
        <p:spPr>
          <a:xfrm>
            <a:off x="8534520" y="76320"/>
            <a:ext cx="53316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cell-1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152280" y="568440"/>
            <a:ext cx="8610840" cy="39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process by which living organisms maintain a relatively internal environment despite changes in the external environment is called…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ow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vo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meosta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WordArt 2"/>
          <p:cNvSpPr txBox="1"/>
          <p:nvPr/>
        </p:nvSpPr>
        <p:spPr>
          <a:xfrm>
            <a:off x="8534520" y="838080"/>
            <a:ext cx="53316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cell-1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78" name="Text Box 3"/>
          <p:cNvSpPr/>
          <p:nvPr/>
        </p:nvSpPr>
        <p:spPr>
          <a:xfrm>
            <a:off x="-76320" y="0"/>
            <a:ext cx="8610840" cy="354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ording to the graphs, at what temperature &amp; pH would enzyme A be most effecti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8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° C and pH 1.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4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C and pH 2.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3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C and pH 1.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38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 and pH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5" descr="Enzyme-activity-temperature-graph"/>
          <p:cNvPicPr/>
          <p:nvPr/>
        </p:nvPicPr>
        <p:blipFill>
          <a:blip r:embed="rId1"/>
          <a:stretch/>
        </p:blipFill>
        <p:spPr>
          <a:xfrm>
            <a:off x="0" y="3740040"/>
            <a:ext cx="5181480" cy="3041640"/>
          </a:xfrm>
          <a:prstGeom prst="rect">
            <a:avLst/>
          </a:prstGeom>
          <a:ln w="0">
            <a:noFill/>
          </a:ln>
        </p:spPr>
      </p:pic>
      <p:grpSp>
        <p:nvGrpSpPr>
          <p:cNvPr id="80" name="Group 9"/>
          <p:cNvGrpSpPr/>
          <p:nvPr/>
        </p:nvGrpSpPr>
        <p:grpSpPr>
          <a:xfrm>
            <a:off x="5943600" y="4038480"/>
            <a:ext cx="2514240" cy="2742840"/>
            <a:chOff x="5943600" y="4038480"/>
            <a:chExt cx="2514240" cy="2742840"/>
          </a:xfrm>
        </p:grpSpPr>
        <p:pic>
          <p:nvPicPr>
            <p:cNvPr id="81" name="Picture 7" descr="ln04b"/>
            <p:cNvPicPr/>
            <p:nvPr/>
          </p:nvPicPr>
          <p:blipFill>
            <a:blip r:embed="rId2"/>
            <a:srcRect l="0" t="0" r="47076" b="0"/>
            <a:stretch/>
          </p:blipFill>
          <p:spPr>
            <a:xfrm>
              <a:off x="5943600" y="4038480"/>
              <a:ext cx="2514240" cy="250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WordArt 8"/>
            <p:cNvSpPr txBox="1"/>
            <p:nvPr/>
          </p:nvSpPr>
          <p:spPr>
            <a:xfrm>
              <a:off x="7007040" y="6402960"/>
              <a:ext cx="483840" cy="378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pH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83" name="Text Box 10"/>
          <p:cNvSpPr/>
          <p:nvPr/>
        </p:nvSpPr>
        <p:spPr>
          <a:xfrm>
            <a:off x="2590920" y="3565440"/>
            <a:ext cx="411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ve rate of enzyme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WordArt 2"/>
          <p:cNvSpPr txBox="1"/>
          <p:nvPr/>
        </p:nvSpPr>
        <p:spPr>
          <a:xfrm>
            <a:off x="8534520" y="76320"/>
            <a:ext cx="53316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cell-16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85" name="Text Box 3"/>
          <p:cNvSpPr/>
          <p:nvPr/>
        </p:nvSpPr>
        <p:spPr>
          <a:xfrm>
            <a:off x="0" y="76320"/>
            <a:ext cx="8610480" cy="39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ch of following would be most likely to increase the amount of the substance produced by the action of enzyme 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rease temperature to 2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crease temperature to 50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crease the amount of subst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crease the amount of substra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5" descr="Enzyme-activity-temperature-graph"/>
          <p:cNvPicPr/>
          <p:nvPr/>
        </p:nvPicPr>
        <p:blipFill>
          <a:blip r:embed="rId1"/>
          <a:stretch/>
        </p:blipFill>
        <p:spPr>
          <a:xfrm>
            <a:off x="0" y="3740040"/>
            <a:ext cx="5181480" cy="3041640"/>
          </a:xfrm>
          <a:prstGeom prst="rect">
            <a:avLst/>
          </a:prstGeom>
          <a:ln w="0">
            <a:noFill/>
          </a:ln>
        </p:spPr>
      </p:pic>
      <p:grpSp>
        <p:nvGrpSpPr>
          <p:cNvPr id="87" name="Group 9"/>
          <p:cNvGrpSpPr/>
          <p:nvPr/>
        </p:nvGrpSpPr>
        <p:grpSpPr>
          <a:xfrm>
            <a:off x="5943600" y="4038480"/>
            <a:ext cx="2514240" cy="2742840"/>
            <a:chOff x="5943600" y="4038480"/>
            <a:chExt cx="2514240" cy="2742840"/>
          </a:xfrm>
        </p:grpSpPr>
        <p:pic>
          <p:nvPicPr>
            <p:cNvPr id="88" name="Picture 7" descr="ln04b"/>
            <p:cNvPicPr/>
            <p:nvPr/>
          </p:nvPicPr>
          <p:blipFill>
            <a:blip r:embed="rId2"/>
            <a:srcRect l="0" t="0" r="47076" b="0"/>
            <a:stretch/>
          </p:blipFill>
          <p:spPr>
            <a:xfrm>
              <a:off x="5943600" y="4038480"/>
              <a:ext cx="2514240" cy="250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WordArt 8"/>
            <p:cNvSpPr txBox="1"/>
            <p:nvPr/>
          </p:nvSpPr>
          <p:spPr>
            <a:xfrm>
              <a:off x="7007040" y="6402960"/>
              <a:ext cx="483840" cy="378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pH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WordArt 2"/>
          <p:cNvSpPr txBox="1"/>
          <p:nvPr/>
        </p:nvSpPr>
        <p:spPr>
          <a:xfrm>
            <a:off x="8534520" y="76320"/>
            <a:ext cx="53316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cel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91" name="Text Box 3"/>
          <p:cNvSpPr/>
          <p:nvPr/>
        </p:nvSpPr>
        <p:spPr>
          <a:xfrm>
            <a:off x="152280" y="568440"/>
            <a:ext cx="8610840" cy="43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ich of the following is an incorrect statement about enzym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zymes are protei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zymes are catalys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zyme activity is unaffected by temperature and p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zymes reduce the activation energy of re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WordArt 2"/>
          <p:cNvSpPr txBox="1"/>
          <p:nvPr/>
        </p:nvSpPr>
        <p:spPr>
          <a:xfrm>
            <a:off x="8534520" y="76320"/>
            <a:ext cx="53316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cel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152280" y="568440"/>
            <a:ext cx="54864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fer to the cell diagram below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bel 1 is pointing to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tochond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ell membra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ucle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lgi apparat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5" descr="animal_cell4"/>
          <p:cNvPicPr/>
          <p:nvPr/>
        </p:nvPicPr>
        <p:blipFill>
          <a:blip r:embed="rId1"/>
          <a:stretch/>
        </p:blipFill>
        <p:spPr>
          <a:xfrm>
            <a:off x="4648320" y="1447920"/>
            <a:ext cx="43434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WordArt 2"/>
          <p:cNvSpPr txBox="1"/>
          <p:nvPr/>
        </p:nvSpPr>
        <p:spPr>
          <a:xfrm>
            <a:off x="8534520" y="76320"/>
            <a:ext cx="53316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cell-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152280" y="568440"/>
            <a:ext cx="861084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feature do all living cells have in comm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tochond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ell membra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ell w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ucle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WordArt 2"/>
          <p:cNvSpPr txBox="1"/>
          <p:nvPr/>
        </p:nvSpPr>
        <p:spPr>
          <a:xfrm>
            <a:off x="8534520" y="76320"/>
            <a:ext cx="53316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cel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152280" y="568440"/>
            <a:ext cx="5486400" cy="46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fer to the cell diagram below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bel 5 is pointing to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tochond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ell membra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ucle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ough endoplasmic reticul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animal_cell4"/>
          <p:cNvPicPr/>
          <p:nvPr/>
        </p:nvPicPr>
        <p:blipFill>
          <a:blip r:embed="rId1"/>
          <a:stretch/>
        </p:blipFill>
        <p:spPr>
          <a:xfrm>
            <a:off x="4648320" y="1447920"/>
            <a:ext cx="43434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WordArt 2"/>
          <p:cNvSpPr txBox="1"/>
          <p:nvPr/>
        </p:nvSpPr>
        <p:spPr>
          <a:xfrm>
            <a:off x="8534520" y="76320"/>
            <a:ext cx="53316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cel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152280" y="568440"/>
            <a:ext cx="54864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fer to the cell diagram below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bel 13 is pointing to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tochond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ell membra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ucle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lgi apparat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animal_cell4"/>
          <p:cNvPicPr/>
          <p:nvPr/>
        </p:nvPicPr>
        <p:blipFill>
          <a:blip r:embed="rId1"/>
          <a:stretch/>
        </p:blipFill>
        <p:spPr>
          <a:xfrm>
            <a:off x="4648320" y="1447920"/>
            <a:ext cx="43434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WordArt 2"/>
          <p:cNvSpPr txBox="1"/>
          <p:nvPr/>
        </p:nvSpPr>
        <p:spPr>
          <a:xfrm>
            <a:off x="8534520" y="76320"/>
            <a:ext cx="53316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cel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02" name="Text Box 3"/>
          <p:cNvSpPr/>
          <p:nvPr/>
        </p:nvSpPr>
        <p:spPr>
          <a:xfrm>
            <a:off x="152280" y="568440"/>
            <a:ext cx="54864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fer to the cell diagram below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bel 3 is pointing to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tochond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ell membra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ucle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lgi apparat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4" descr="animal_cell4"/>
          <p:cNvPicPr/>
          <p:nvPr/>
        </p:nvPicPr>
        <p:blipFill>
          <a:blip r:embed="rId1"/>
          <a:stretch/>
        </p:blipFill>
        <p:spPr>
          <a:xfrm>
            <a:off x="4648320" y="1447920"/>
            <a:ext cx="43434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WordArt 2"/>
          <p:cNvSpPr txBox="1"/>
          <p:nvPr/>
        </p:nvSpPr>
        <p:spPr>
          <a:xfrm>
            <a:off x="8534520" y="76320"/>
            <a:ext cx="53316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cel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152280" y="568440"/>
            <a:ext cx="5486400" cy="50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fer to the cell diagram below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ich organelle controls the activity of the cell and stores DN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#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#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#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#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animal_cell4"/>
          <p:cNvPicPr/>
          <p:nvPr/>
        </p:nvPicPr>
        <p:blipFill>
          <a:blip r:embed="rId1"/>
          <a:stretch/>
        </p:blipFill>
        <p:spPr>
          <a:xfrm>
            <a:off x="4648320" y="1447920"/>
            <a:ext cx="43434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WordArt 2"/>
          <p:cNvSpPr txBox="1"/>
          <p:nvPr/>
        </p:nvSpPr>
        <p:spPr>
          <a:xfrm>
            <a:off x="8534520" y="76320"/>
            <a:ext cx="53316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cel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08" name="Text Box 3"/>
          <p:cNvSpPr/>
          <p:nvPr/>
        </p:nvSpPr>
        <p:spPr>
          <a:xfrm>
            <a:off x="152280" y="568440"/>
            <a:ext cx="8610840" cy="43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ich of the following is an incorrect statement about enzym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zymes are protei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zymes are catalys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zyme activity is unaffected by temperature and p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zymes reduce the activation energy of re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WordArt 2"/>
          <p:cNvSpPr txBox="1"/>
          <p:nvPr/>
        </p:nvSpPr>
        <p:spPr>
          <a:xfrm>
            <a:off x="8534520" y="76320"/>
            <a:ext cx="53316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cel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228600" y="457200"/>
            <a:ext cx="8610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Describe the inner structure of mitochondria and explain how this structure influences mitochondrial function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5" descr="415px-Diagram_of_a_human_mitochondrion"/>
          <p:cNvPicPr/>
          <p:nvPr/>
        </p:nvPicPr>
        <p:blipFill>
          <a:blip r:embed="rId1"/>
          <a:stretch/>
        </p:blipFill>
        <p:spPr>
          <a:xfrm>
            <a:off x="2133720" y="3765600"/>
            <a:ext cx="4724280" cy="30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304920" y="731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dividuals often experience increased perspiration while exercising.  This is the body’s attempt to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) burn more calor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) increase heart r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) maintain stable body temperat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) excrete excess water from cel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WordArt 3"/>
          <p:cNvSpPr txBox="1"/>
          <p:nvPr/>
        </p:nvSpPr>
        <p:spPr>
          <a:xfrm>
            <a:off x="8534520" y="76320"/>
            <a:ext cx="53316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Org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WordArt 2"/>
          <p:cNvSpPr txBox="1"/>
          <p:nvPr/>
        </p:nvSpPr>
        <p:spPr>
          <a:xfrm>
            <a:off x="8534520" y="76320"/>
            <a:ext cx="53316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Org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152280" y="568440"/>
            <a:ext cx="8610840" cy="39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ptiles must warm their bodies by absorbing heat from their surroundings.  Which would you expect to be tru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) Reptiles live in harsh environm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) Reptiles must eat constant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) Reptiles are very active anima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) Reptiles have a slow metabolis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304920" y="731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anges in temperature and acidity by…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anging the shape of protei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anging the order of amino aci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creasing the amount of substra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using binding at the active si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WordArt 3"/>
          <p:cNvSpPr txBox="1"/>
          <p:nvPr/>
        </p:nvSpPr>
        <p:spPr>
          <a:xfrm>
            <a:off x="8534520" y="76320"/>
            <a:ext cx="53316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Org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304920" y="731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system produces antibodies and white blood cell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mmu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docr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pi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produc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WordArt 3"/>
          <p:cNvSpPr txBox="1"/>
          <p:nvPr/>
        </p:nvSpPr>
        <p:spPr>
          <a:xfrm>
            <a:off x="8534520" y="76320"/>
            <a:ext cx="53316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Org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WordArt 2"/>
          <p:cNvSpPr txBox="1"/>
          <p:nvPr/>
        </p:nvSpPr>
        <p:spPr>
          <a:xfrm>
            <a:off x="8534520" y="76320"/>
            <a:ext cx="53316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cell-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2" name="Text Box 3"/>
          <p:cNvSpPr/>
          <p:nvPr/>
        </p:nvSpPr>
        <p:spPr>
          <a:xfrm>
            <a:off x="152280" y="568440"/>
            <a:ext cx="8610840" cy="524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is the main difference between prokaryotes and eukaryot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ukaryotes can manufacture their own food whereas prokaryotes canno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ukaryotes have a membrane-bound nucleus but prokaryotes do no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karyotes have a cell wall but eukaryotes do no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karyotes have organelles but eukaryotes do no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304920" y="731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of the following statements is NOT tru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 cells contain a nucle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lls are the basic units of lif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lls come only from other cel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 living things are made of cel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WordArt 3"/>
          <p:cNvSpPr txBox="1"/>
          <p:nvPr/>
        </p:nvSpPr>
        <p:spPr>
          <a:xfrm>
            <a:off x="8534520" y="76320"/>
            <a:ext cx="53316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Org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304920" y="731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one marrow produces red blood cells, white blood cells and platelets.  Which of the following conditions is MOST likely to be a symptom of bone marrow diseas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air lo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fe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eafn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eight ga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WordArt 3"/>
          <p:cNvSpPr txBox="1"/>
          <p:nvPr/>
        </p:nvSpPr>
        <p:spPr>
          <a:xfrm>
            <a:off x="8534520" y="76320"/>
            <a:ext cx="53316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Org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304920" y="731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mino acids are the building blocks of _____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pi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tei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ucleic aci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rbohydra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WordArt 3"/>
          <p:cNvSpPr txBox="1"/>
          <p:nvPr/>
        </p:nvSpPr>
        <p:spPr>
          <a:xfrm>
            <a:off x="8534520" y="76320"/>
            <a:ext cx="53316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Org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304920" y="609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is LEAST likely to cross an animal cell membrane by simple diffus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a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xyg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arbon diox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otassium 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WordArt 3"/>
          <p:cNvSpPr txBox="1"/>
          <p:nvPr/>
        </p:nvSpPr>
        <p:spPr>
          <a:xfrm>
            <a:off x="8534520" y="76320"/>
            <a:ext cx="53316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Org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304920" y="731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system produces antibodies and white blood cell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mmu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docr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pi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produc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WordArt 3"/>
          <p:cNvSpPr txBox="1"/>
          <p:nvPr/>
        </p:nvSpPr>
        <p:spPr>
          <a:xfrm>
            <a:off x="8534520" y="76320"/>
            <a:ext cx="53316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Org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304920" y="4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ithin an organism, nerve cells and muscle cells differ in both structure and function.  How is this possib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-4525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use different parts of the DN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-4525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contain different chromosom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-4525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have different cell wal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-4525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contain different DN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WordArt 3"/>
          <p:cNvSpPr txBox="1"/>
          <p:nvPr/>
        </p:nvSpPr>
        <p:spPr>
          <a:xfrm>
            <a:off x="8534520" y="76320"/>
            <a:ext cx="53316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Org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304920" y="731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organelle responsible for processing and packaging substances produced by the cell is the…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acuo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ibos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lgi apparat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doplasmic reticul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WordArt 3"/>
          <p:cNvSpPr txBox="1"/>
          <p:nvPr/>
        </p:nvSpPr>
        <p:spPr>
          <a:xfrm>
            <a:off x="8534520" y="76320"/>
            <a:ext cx="53316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Org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304920" y="731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560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om simplest to most complex, what is the correct order of organization in living thing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61800" indent="-420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om, molecule, cell, tissue, organ, organ system, organ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61800" indent="-420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ll, organ, tissue, molecule, organism, organ system, at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61800" indent="-420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issue, organ, cell, organ system, atom, molecule, organ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61800" indent="-420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om, organ system, organism, tissue, cell, molecule, org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WordArt 3"/>
          <p:cNvSpPr txBox="1"/>
          <p:nvPr/>
        </p:nvSpPr>
        <p:spPr>
          <a:xfrm>
            <a:off x="8534520" y="76320"/>
            <a:ext cx="53316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Org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304920" y="731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uring breathing, cells in the respiratory system communicate with muscle cells in the diaphragm.  This communication occurs by means of the…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rvous syst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gestive syst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docrine syst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productive syst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WordArt 3"/>
          <p:cNvSpPr txBox="1"/>
          <p:nvPr/>
        </p:nvSpPr>
        <p:spPr>
          <a:xfrm>
            <a:off x="8534520" y="76320"/>
            <a:ext cx="53316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Org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304920" y="731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characteristic of eukaryotic cells gives them a greater ability for specialization than prokaryotic cell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ukaryotes are ol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ukaryotes have membrane-bound organel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ukaryotes reproduce more quick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ukaryotes are heterotrophic anaerob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WordArt 3"/>
          <p:cNvSpPr txBox="1"/>
          <p:nvPr/>
        </p:nvSpPr>
        <p:spPr>
          <a:xfrm>
            <a:off x="8534520" y="76320"/>
            <a:ext cx="53316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Org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WordArt 2"/>
          <p:cNvSpPr txBox="1"/>
          <p:nvPr/>
        </p:nvSpPr>
        <p:spPr>
          <a:xfrm>
            <a:off x="8534520" y="76320"/>
            <a:ext cx="53316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cell-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152280" y="568440"/>
            <a:ext cx="8610840" cy="50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ome Eubacteria and Protista cells have flagella or cilia which allow these cells to…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r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eprodu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espi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o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WordArt 2"/>
          <p:cNvSpPr txBox="1"/>
          <p:nvPr/>
        </p:nvSpPr>
        <p:spPr>
          <a:xfrm>
            <a:off x="8534520" y="76320"/>
            <a:ext cx="53316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cel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41" name="Text Box 3"/>
          <p:cNvSpPr/>
          <p:nvPr/>
        </p:nvSpPr>
        <p:spPr>
          <a:xfrm>
            <a:off x="152280" y="1674720"/>
            <a:ext cx="86108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Explain what tissues, organs, &amp; systems are and how they relate to each other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WordArt 2"/>
          <p:cNvSpPr txBox="1"/>
          <p:nvPr/>
        </p:nvSpPr>
        <p:spPr>
          <a:xfrm>
            <a:off x="8534520" y="76320"/>
            <a:ext cx="53316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cel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43" name="Text Box 3"/>
          <p:cNvSpPr/>
          <p:nvPr/>
        </p:nvSpPr>
        <p:spPr>
          <a:xfrm>
            <a:off x="380880" y="1521000"/>
            <a:ext cx="8610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xplain how cells in an individual can be different from each other even though they descended from a single cell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WordArt 2"/>
          <p:cNvSpPr txBox="1"/>
          <p:nvPr/>
        </p:nvSpPr>
        <p:spPr>
          <a:xfrm>
            <a:off x="8534520" y="76320"/>
            <a:ext cx="53316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cel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304920" y="1158840"/>
            <a:ext cx="8610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escribe the cell theory. Include all three part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WordArt 2"/>
          <p:cNvSpPr txBox="1"/>
          <p:nvPr/>
        </p:nvSpPr>
        <p:spPr>
          <a:xfrm>
            <a:off x="8534520" y="76320"/>
            <a:ext cx="53316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cel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152280" y="568440"/>
            <a:ext cx="8610840" cy="61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ich of these correctly matches the class of macromolecules with its primary func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arbohydrates and genetic inform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ipids and enzymatic fun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oteins and energy stor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ucleic acids and genetic inform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WordArt 2"/>
          <p:cNvSpPr txBox="1"/>
          <p:nvPr/>
        </p:nvSpPr>
        <p:spPr>
          <a:xfrm>
            <a:off x="8534520" y="76320"/>
            <a:ext cx="53316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cel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60" name="Text Box 3"/>
          <p:cNvSpPr/>
          <p:nvPr/>
        </p:nvSpPr>
        <p:spPr>
          <a:xfrm>
            <a:off x="152280" y="568440"/>
            <a:ext cx="8610840" cy="56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wo eukaryotic cells on a microscope slide look very different.  Which statement about the two cells is correc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cells cannot be from the same organism and cannot contain mostly the same DN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cells can be from the same organism but cannot contain mostly the same DN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cells cannot be from the same organism but can contain mostly the same DN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cells can be from the same organism and can contain mostly the same DN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WordArt 2"/>
          <p:cNvSpPr txBox="1"/>
          <p:nvPr/>
        </p:nvSpPr>
        <p:spPr>
          <a:xfrm>
            <a:off x="8534520" y="76320"/>
            <a:ext cx="53316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cel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62" name="Text Box 3"/>
          <p:cNvSpPr/>
          <p:nvPr/>
        </p:nvSpPr>
        <p:spPr>
          <a:xfrm>
            <a:off x="152280" y="568440"/>
            <a:ext cx="8610840" cy="354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ich element bonds to itself, forms chains, rings, and large complex molecul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ydro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itro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xy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rb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WordArt 2"/>
          <p:cNvSpPr txBox="1"/>
          <p:nvPr/>
        </p:nvSpPr>
        <p:spPr>
          <a:xfrm>
            <a:off x="8534520" y="76320"/>
            <a:ext cx="53316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cel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152280" y="568440"/>
            <a:ext cx="861084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ich of the following is true of lipid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y are pol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y store energ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y dissolve easily in wa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y are found only in animal cel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9T15:52:00Z</dcterms:created>
  <dc:creator>Kary M. Kahle</dc:creator>
  <dc:description/>
  <dc:language>en-US</dc:language>
  <cp:lastModifiedBy>Tracey Hayden</cp:lastModifiedBy>
  <dcterms:modified xsi:type="dcterms:W3CDTF">2009-04-19T16:09:56Z</dcterms:modified>
  <cp:revision>51</cp:revision>
  <dc:subject/>
  <dc:title>Slide 1</dc:title>
</cp:coreProperties>
</file>